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D09-ACEC-430D-8E04-69FB4713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66A-D7F1-4A93-A998-E2033DB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CAC1E-B4D4-4CC3-BD33-E434F7B6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3F616-01BF-4FDF-9910-FD30FD7D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F2CCE-E009-4B80-9614-B1040569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1C319-F9A4-4259-8286-2157C980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BA33F-7412-417C-9EF3-1B3A14E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E5CB7-DA8A-4222-9FE6-5F84C784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8A304-F87A-4907-BC3E-B6E01FA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BE71C-E7C5-4557-B4ED-4B8985FD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CB39E-A694-40D5-8701-AE54BC4A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1969A-F426-4BB6-95B8-43E6663B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388-D280-4B06-813A-EEF888C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A3104-5BE6-49D3-A0C5-FDB6531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A4F2-0F38-421A-B6F4-65008AF2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7AC27-4E3F-49C7-BC9B-E37379E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D41E1-7398-4CBA-A13A-379898B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1CE5D-049C-4AAB-9981-F53458E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8A7F-DBBE-469A-AA89-5F3842FB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FA1DE-2347-4F9C-A571-5A5F9181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C3C13-F4E2-4AE7-A706-022A6070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88A6F-7428-4E40-BCBE-F72DF0FE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80C7A-A585-46AE-89B1-F89F831A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710-0C86-48AD-8AAC-F58267F7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7FE83-BE21-4122-8166-3FEEF0F0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278B-2205-4600-884B-4714B907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A67F2-2362-4F2F-A06B-6FC4CA4A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EE1A0-A309-4B24-B444-0030A956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9E14D-AB17-4892-B64C-B46E4F43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F943D-C338-45FD-93D7-E585BE26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1CCA-A86C-48C7-A9C9-A046CF1B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B9574-15E9-4A4E-96EB-9B4709B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5E7F-4CC1-4E7F-93F1-A4D46F3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C30FD-3170-48A2-8277-09BBCE86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C943-319A-40AA-B70F-D9D57F4F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665B2-AB57-4841-8C50-B4FBC9F3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675A5-401C-4878-9252-CC6A27C9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4628-7DF8-47C0-99A5-0124B6EE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53D4A-650F-4278-A1A0-246ACAD6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05580-F115-4D7B-B0C0-B473A01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F1513-28F0-400D-86E4-78017A31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B8CD0-0F65-489B-ABF0-8E74EC2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7938F-04D1-47FA-BA79-639575D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08B75-D3C1-4044-B34A-3F965821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49DC1-CBD7-45C6-BD92-9CE3939B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8D0C-DD70-4AA5-9E15-6BB2939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F1754-7037-4389-9465-CB46543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7B4FD-A640-46B8-97DD-86F529F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42017-EFCC-4587-8AE5-F3AD883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4DD55-196C-46F7-B2FB-8ABC8468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38EB2-5707-483E-92CB-04FA31E0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0C7A1-F8EC-4890-A273-F978E3D2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48845-61A7-4EAE-8979-F7D10924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AFAF8-682F-4E87-90EE-7863C0FA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714D6-C125-49C9-884C-748CAE3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4C0FF-9088-4AF1-8EA6-EAB7755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5F77-6986-446B-B34B-34137052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6A9A7-61EB-4174-90A6-DE324CC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840CA-4E59-45AE-9C4F-B471A13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C384A-7179-4ACD-AF12-4922473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7C498-986A-4643-96A3-832D994A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25297-482A-46B9-97C5-C217BFEA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AB987-C2EC-40FA-A8D6-B69109E3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194AA-4288-4ABA-8C69-1488EEE2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53E4B0-51EB-4FF8-80F5-7D209B3E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B1F49-9993-43F1-9B75-3250469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1D86B-E60C-4B89-8AF6-1D44BFD1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08E5-E024-490D-BC5C-DFC2368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7B09C-AEA4-4D53-B57F-805912D1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D7055-F045-46BB-A5A0-154F3084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FE25F-1F0E-4820-9E74-B6D5A9F3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73B40-BBE1-428C-B7C4-A23BA28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6F9CB-1311-46BC-B52E-1BE2A5C5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ECACE-ED7D-45D6-87EF-68A328D9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1B70F-F9A7-4284-86E4-D8013B5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8F01A-0B31-47B5-8271-7DCD6EA6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7F21B-34EA-4E78-92BF-C2863232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57A99-01B4-46F6-8C4E-88FF3792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FB1A-630E-4A46-9FE5-D0AED6BF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63EF4-80D6-44D7-9E1E-ABB4A03B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A646C-5B7C-4077-9715-59309EA7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200E90-7E70-4BC1-92FE-47F8427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86F0A-008B-4781-A988-06473A93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F04F4-18C7-473D-8495-3B9803F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FB2F9-AD5B-42DD-AD9B-D688FD4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71B05-5F89-47CF-8F55-72C186B9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DCA320-6E76-42BB-8562-C8F7047C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FE7BA-9E1A-483D-BB38-EE12CB22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62D3D-E507-4D28-90D0-37DEB408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A5EB-7711-40CA-B93A-A9068314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B01CC-8637-45AF-9562-E9957518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8A65E-4216-4265-B431-259E0247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AC44E-11F1-4BA8-9106-6457ED3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C191FF-0C0A-4CC6-B352-1293D53F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5B9B8-549E-4205-A5F9-45EAE221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02D34-7DF6-4B07-9285-4C62A20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6BD60-8065-4B79-A4CF-76ACFDD9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89786-10B9-4EA2-B19C-B739486D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324A5-748E-4D39-92C4-95AB4C5F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921AB-22B3-4211-8C66-069FEACB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4AB9-F7A6-4645-BEED-A1F100AC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2F7B4-8068-4D18-98E9-BE0B6D46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AD2DC3-9637-4D9D-AFBE-47E54B79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95E6D-A3D5-45DB-82A5-165EA895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E31BB-5682-45D8-8306-1F677C89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7448C-5F1F-4A58-90BE-DB1F828B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A5BB40-0DB4-4605-A6CC-B5C14A2B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81B37-F678-4EAA-A211-6C4308DC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7A8015-FBC7-4DB8-B10D-6551583A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A80B1-2AC2-4F17-ABCA-8E1A328A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37BB8-85BB-4905-A180-93576542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5FC-73CE-40CA-B28A-4457282B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F8D6-DB8E-486F-90E6-22C3FAA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FED46-ACFC-4E6B-8A5A-8EEC18D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1DC2D-6B72-46EF-AEB8-9507ED1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7903B-E421-44BC-BAFE-8DFC24A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720E9-7ECC-436B-918B-C05C8563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EEFAA2-4015-4418-8F64-031C4625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D29A4-5BD0-48E6-8933-FA8670E0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258424-323C-4BD4-A562-66640714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DAA31-5DB2-47B2-AC2B-7E66589F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10311-540D-48C1-A8A3-AF642E2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D4B24-7945-4C0B-B98C-9070B90F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025F-E7CE-4E74-AEA4-072CE1A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78C26-5AB4-4455-9255-E2E31C91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251C1-F339-4798-9B9C-5FEE0CCE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2F950-54DE-47E3-8EDD-FECE5E4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61C3A-E27C-4D81-AD50-744C5C9E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15795-BF92-4CCA-B1F6-18411C1B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7999B-845C-4515-BFEC-D7BFCBB9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DE5BD-47D5-45F8-B527-E261C1BD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BEB2DA-99E3-499E-BA38-FFCEE8F3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8504C4-0C1C-4894-9138-19296AD0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06F401-A605-48FB-B818-938E604A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5653-AA9B-4377-AF0F-72B6A62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F898D5-4AE9-4BFB-B22A-2F3858B8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A393D5-E545-4071-9EBA-F0EF3729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5523D3-02E1-477A-AA47-814A762E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0DB24-3DFA-40DA-A795-77C0F1C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036E5-70CB-4FB0-BEE3-79D8B6EA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9D9B1-6834-4A44-A3F0-96E998E8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B08FF2-6A20-4ED0-8288-3BA64AD6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3B545-5159-4712-93B8-5482C908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53EE59-7174-4728-90AB-B6B39DCA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5E245-0737-42D6-AE79-739BA790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C124-FC95-477A-AB86-9ADF73D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DDE82-762C-4649-BAC3-356A995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D5C6F-8D45-40DA-A62A-3F7822DF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BB109-4A24-4B87-8740-05A8BCD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CDAAFD-CC37-448F-A676-A763892A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C5303-5E70-48BA-BCAD-F1E4AE0C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F8029-A0F3-41FD-9DA5-8F404A23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3485B-CAB8-479A-8C1E-CCFE1A8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A6FA2-1E87-48D3-9656-450F482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7CE52-3117-4132-89D9-3FB139DB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82BB8F-1FF9-4722-8FC9-F3DC6473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72D9-F817-4CE0-9123-8271AE26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748B8F-DB53-46DC-A789-1129E36E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0260C-80A7-48F3-AD34-AB484D3C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4F018B-DD9A-4FA9-9B9F-B75D86A2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FAC1D-927C-43AB-A26D-8E61DC56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2FE40-99AA-4287-85B4-9900D17D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DE48C-429E-4F54-9AAB-195A9109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12F588-B065-44F9-B6BE-3061B069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0A1FE-CD8D-4024-9F31-5242A819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4E1BB-F750-45FE-A6B1-337E7DCC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39290-9DCC-4D97-8E3E-AB10BE1B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2C08-9D2E-45E6-96D1-85106250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07603F-F821-45DB-8653-F983FAD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1D0C0-B512-4642-8826-3933973E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E7022E-2EF3-4CD8-963E-C24D9753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A10C4-F194-4865-8F3E-E94BA766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7F82-7C33-420B-82B3-2768ECD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AF28-7937-4396-A095-249A92F6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946E-89CC-4D97-AB00-F66F455C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7A7-8BCA-44C8-BA2C-7356F7A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5666-FE31-466F-ACF9-78220DF0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DAE7-2DC1-4F22-BB06-1B6DCE1E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67C4E-1929-41C1-A694-3796B20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3B00-80D9-497B-936F-E5E7BB0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0CA9E-E947-45F7-AEEF-4EA3D99B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3084-7FC5-4CF4-B558-F5AEA598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E824-0CDF-4409-AD92-73982BA4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6681A-1A6B-4257-B575-7928CD8E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5EDF-DBEC-4104-86BC-D4AD0DD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372D-5C18-4FB5-B764-48C36CF1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81BA-09B3-407D-8ABE-76325F83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E3413-6311-4C40-BFBE-463D71C8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A588-B7CB-4E83-96AD-5B649B41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1EFC-A154-4FED-8881-750E6BE1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D0AF-963F-4EE0-A359-DD62DBE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313EE-6F14-4543-9969-00F9739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2CD16-F370-45F2-A488-4BE3C928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BC1F-4D41-4571-A8F1-1797AEE2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F327D-680A-46BA-A28E-6C98EC8E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78BB-ED1C-4B75-861E-0677E212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3FA2-0047-4109-A9AA-DE09B78E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DEC-61ED-4F79-BC11-1C6FDEE8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B05F9-6995-4BC7-B693-BF3CF9F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91AC-EED1-4783-B79D-EC422C01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2A9A9-D2EE-4D34-8DC2-971063F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36240-7CC1-43DA-84ED-914D0F7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5172A-54F7-47E0-8DAD-A7E85E39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3CCF-0B2F-4F1F-B90F-2D7C901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F86C-FA4A-48B3-A509-A61CFC9D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E98BC-1588-4D93-8E55-2A226CC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FD36A-853F-48C3-A2C8-DE1ECC8C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7F07-5DD5-4898-B1C9-87AA5CF8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B30-506B-4095-B3FA-A1057843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9179-B052-4424-87E4-2B58BD0D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DF2C-07DF-411C-A604-E5E2CF07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D73C3-70D7-4CAB-BAD2-B7AFF7F3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DC5C-6840-4725-86B1-0B9833F5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B30D-9356-4049-B1C6-A11E7EB7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0595-2774-4515-A824-756753DC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77186-6287-42B5-AA0E-13DFD04F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72847-4C71-4198-BF48-431494F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F9BAF-9AA9-4A8F-94EB-F22F673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421E5-56B4-4411-BD41-AAE0AE7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261-E6B0-4DD3-B403-FFFE16F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34DFA-BEDD-4F4F-BAC4-7F3111D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AF26-1817-4201-8FF7-A6F4F843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BC8F7-825F-4BD5-9B8C-4BC959F6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76C1-7434-4BA5-86A5-2FCDF224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F301-EBF2-489F-A86B-9BE17CC4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7CAA2-4ABD-4BF6-8A0F-66C764F4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50A1D-84A0-455F-9781-93F62160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117C-68A0-49C0-A5C8-DB856BE5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B0BE-9CED-4A40-ACCE-BAB3B821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9A45D-F115-4DA2-B0CD-920EEFB0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70E-00A0-45EA-A796-6FFAC0C5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B699-22C2-445F-9116-C3F7CA4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A5EFC-121B-448E-8FD0-D89DEFF3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280F6-6CA5-42C0-A3D5-C1B536A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D9023-FA2E-426F-8493-ED852C1D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C9589-BE11-432D-934B-06ECE4F3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E09E-EEFD-4682-BBB0-F66A544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86F42-2227-428F-BA3A-D188A94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A2A6D-3CA5-4882-B812-15AC696C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8BA46-5224-48BA-9FFC-4FFD976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D5C89-F19A-401F-AC30-30836B3E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FE9-DDEF-49EE-A2C0-B1BBE40A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5331B-D281-452C-A7D7-22D43234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EF2B-948F-4508-9BD3-FFB2BF3E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4C99F-6E61-4B01-9716-B72E4AAF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70D0-5640-40D5-9D18-6D50E60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09CF-1221-4377-928E-F2BC9C4A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83855-0236-4F68-B0F5-6DB3D8D1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4334-A48D-43C6-9621-78DEAB1B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881EF-1A2E-4286-9F7F-C6A68FA4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88824-3510-44D8-BBF5-20E9FA25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66E31-576C-40F1-B2B2-797E267D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F015-7B4D-40C5-AAB8-BDF83C8AAF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6A9-0E43-425F-A68E-0BF6B76B0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06ED-A372-4AF0-BCAB-623AB34C9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146F-2B5A-467F-8CE6-1E2C68520C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70D-6D9F-4E37-BC2B-0C2E7B684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0B7A-9DD7-4082-8027-B3133835F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14A4-68A0-4C65-AA2A-D85278D76C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FBEF-9E4C-4969-9B22-C34B43675C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F9D0-490B-444D-9B15-47E91603E7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E098-8AE3-425F-B74C-C0EBE8069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355B-F01E-4CC9-AF2C-C662436B62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6694-73AC-4D99-9340-8BB98988B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6744-7A5E-4092-B9FF-DCEFC42D1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E695-18CA-4F8A-83A0-E93A1E784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1222-A196-4364-B4B5-554A89F69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185-5A99-4E4E-8456-FE23943303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F63B-CDE3-4156-8366-BCC09C0DC3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A1DD-91FC-4456-9792-BB8B35696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EAAF-377E-49E5-A5BE-FBCC32DF74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7BA-B878-450B-B57E-C9161D197D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564A-A035-4420-B3A3-1F130EE37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17FD-B548-4093-AEC7-3200A8690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A243-C685-4492-8C70-C348C8B502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E071-58A4-497E-A9B1-0C37A18724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BDE1-3894-402D-8994-86D08FBDC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669-F706-49AD-B72A-15DCE4A854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B58-9AD8-4F39-95FC-E003A61EA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0CDB-8088-446D-8C08-07952B063B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2B4-E7EF-4F54-A40D-2FF17FC6E3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825-AA93-4E75-AA63-3FAB07ABF5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F52-BB40-4C37-9F11-2BD02D76C8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EC80-D572-4F68-AB65-FB68BE4FFA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0734-430D-4A07-8300-C1209DE8B0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9790-4FB5-4713-8E11-E17B7D2CE0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7CC4-FFC0-4053-A504-E39CAB6CB3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84FB-C1DC-437E-96AC-85352A32A1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791B-6F99-4181-9A19-E64318B6BC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0902-4CB5-4F26-9665-45B286DF4E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2D3E-4001-443A-A796-5066FF2392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B211-20E0-4212-BB6A-EC9EBB1B4B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67000" y="3214800"/>
            <a:ext cx="4410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00080" y="750960"/>
            <a:ext cx="8943840" cy="59911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1863720"/>
            <a:ext cx="345600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95280" y="2195640"/>
            <a:ext cx="345600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4000" y="3241800"/>
            <a:ext cx="345600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345600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468360" y="5743440"/>
            <a:ext cx="345600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68360" y="6083280"/>
            <a:ext cx="345600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68360" y="6400800"/>
            <a:ext cx="5472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581040" y="965160"/>
            <a:ext cx="7981920" cy="5343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971640" y="2646360"/>
            <a:ext cx="324000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3240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900000" y="3303720"/>
            <a:ext cx="32403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1116000" y="4365720"/>
            <a:ext cx="324000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1187280" y="4681440"/>
            <a:ext cx="432144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1187280" y="5992920"/>
            <a:ext cx="43214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0:43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